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5.gif" ContentType="image/gi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7498-B228-4EDB-8E81-AECE8E47EF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24FE-FAEC-4D5E-A42E-52CFFBF041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819D-7B16-4487-BBDA-A370FF0CE4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D088-C25F-48CD-BDBA-FC1BF19719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22F9-4C6F-4778-845F-E03A094F76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4A81-9176-405D-A4AB-D10A9D3AA8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2271-4BEB-4FB7-82A7-1ABA91217F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490B-92C8-4741-B27E-4504A9B585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1AD8-715D-46B4-A4AD-5935C6E442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4D64-68B0-490E-B692-F8CE35EA9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4A0-EA91-4CBC-834C-42BEF7F2D7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0394-4DC3-48CB-AC13-F213771CF3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8D86-AE8A-4D0A-91EA-A654B01ACF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6BC-ADF2-4850-919A-A7B9D3610F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3DC-94B8-4681-945E-3E090000C1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B0A0-7BB5-45A1-80A7-7B143D93E6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FF75-5B08-453B-AED4-B0701FB405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5DC1-5585-4C44-BE6E-476BB1B98F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5A6-71BD-446E-B923-CF4F0012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A0F-4D35-4340-8FF5-CF77BBF2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254-2A77-4753-A4D4-0B158C5C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AD0-09C7-4FC5-B50E-0E05214E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E775-386F-4E2C-8EDC-86C9079B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98D4-C817-4150-8210-B4072EFB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F631-2621-4B79-A744-062235BE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7BBB-57BE-432E-A08C-8854B02D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7EA2-72F9-4E8E-914F-A02ECB91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E806-2E30-4776-8ADF-C5187130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860A-7A7F-4632-A8E2-7C35E2B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B7B-BB4D-4971-A7BF-1C97971D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23D-044A-438C-AAB2-1214606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D3F7-9589-4E43-84FF-2FA53DCA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8733-7D4C-4776-954E-E8C6771B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BD17-07CD-473D-8A5C-1C7A84FA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DC4D-8F76-4780-9AEE-7B5959C2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8C2B-36D9-4755-8886-C0CA19F0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D978-4BC2-4EA1-904D-681F502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9E16-AD86-4431-9F92-5A5B390B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3E31-FBB7-473C-B3A4-C2865094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D803-2764-4186-85B1-C1FE22C2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2DD-BCDE-46D1-9222-73C7DDD6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D216-85F7-4F59-88D1-973973EF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D80C-099E-491E-B45C-61DFD14C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C6C6-9C12-4F53-A383-0667D4E0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E0A9-80BB-4D28-AB6C-9F0AF0FF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3197-E0D3-4277-8FCF-9302DC9E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BC6A-A6C1-42A4-B286-0D14A6DB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91E1-532D-4CEE-8CD2-047AF024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7179E-42EE-4519-9496-89802645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4A06B-FE4A-4ECD-9495-9865FA27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8185-46F1-4BCB-8946-20F25565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C1C-5FEF-4323-A43F-3A0D8824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E6C5-B5A7-4EA7-9595-048A94C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7884-8EAA-43DF-9F52-1D47519C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17CB8-679A-4C02-891A-66E0041F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070F-1777-4C36-9925-F975C9A9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896B-4EFC-46E1-84CE-4ED7784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7ABFE-D433-402D-A4D1-2DBA5E2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32B4-1296-40C4-B253-04FF6587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0CF7-C6F8-419A-A042-05542E0D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0876C-07CB-483F-98CC-4DE4D4AE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FB3-8145-4988-9E67-A743FFFD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D96-8C97-437A-BF1A-6D2C7815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E19-5A50-4C9F-A5D3-0694535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CE8-C061-43BB-B40B-5056A5D2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EB5-81A8-4BFF-887B-FEBBE548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6251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c62514"/>
                </a:gs>
                <a:gs pos="50000">
                  <a:srgbClr val="000000"/>
                </a:gs>
                <a:gs pos="100000">
                  <a:srgbClr val="c6251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6251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6251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62514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6251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62514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A9DE-172F-4A8C-B790-BAC1D773D8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50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1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4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7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60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1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64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65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8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1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74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77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80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83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86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9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92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95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8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01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04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07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10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13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16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9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22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25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30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33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6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9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42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45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8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51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54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57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60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2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AA38-31F7-4718-A820-7FCE8B54BD2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26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6251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c62514"/>
                </a:gs>
                <a:gs pos="50000">
                  <a:srgbClr val="000000"/>
                </a:gs>
                <a:gs pos="100000">
                  <a:srgbClr val="c6251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6251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6251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62514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6251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62514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2F8A-A2E8-44B4-962C-0F64D96776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275" name="Group 3"/>
            <p:cNvGrpSpPr/>
            <p:nvPr/>
          </p:nvGrpSpPr>
          <p:grpSpPr>
            <a:xfrm>
              <a:off x="3486240" y="954000"/>
              <a:ext cx="945000" cy="709560"/>
              <a:chOff x="3486240" y="954000"/>
              <a:chExt cx="945000" cy="709560"/>
            </a:xfrm>
          </p:grpSpPr>
          <p:sp>
            <p:nvSpPr>
              <p:cNvPr id="276" name="Oval 4"/>
              <p:cNvSpPr/>
              <p:nvPr/>
            </p:nvSpPr>
            <p:spPr>
              <a:xfrm>
                <a:off x="3486240" y="954000"/>
                <a:ext cx="94500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5"/>
              <p:cNvSpPr/>
              <p:nvPr/>
            </p:nvSpPr>
            <p:spPr>
              <a:xfrm>
                <a:off x="3825720" y="1265760"/>
                <a:ext cx="2286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279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280" name="Group 8"/>
                <p:cNvGrpSpPr/>
                <p:nvPr/>
              </p:nvGrpSpPr>
              <p:grpSpPr>
                <a:xfrm>
                  <a:off x="3736800" y="1267200"/>
                  <a:ext cx="3598200" cy="2651040"/>
                  <a:chOff x="3736800" y="1267200"/>
                  <a:chExt cx="3598200" cy="2651040"/>
                </a:xfrm>
              </p:grpSpPr>
              <p:sp>
                <p:nvSpPr>
                  <p:cNvPr id="281" name="Oval 9"/>
                  <p:cNvSpPr/>
                  <p:nvPr/>
                </p:nvSpPr>
                <p:spPr>
                  <a:xfrm>
                    <a:off x="3736800" y="1267200"/>
                    <a:ext cx="359820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0"/>
                  <p:cNvSpPr/>
                  <p:nvPr/>
                </p:nvSpPr>
                <p:spPr>
                  <a:xfrm>
                    <a:off x="511020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284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285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15"/>
                  <p:cNvGrpSpPr/>
                  <p:nvPr/>
                </p:nvGrpSpPr>
                <p:grpSpPr>
                  <a:xfrm>
                    <a:off x="5788080" y="2149200"/>
                    <a:ext cx="3039480" cy="2528640"/>
                    <a:chOff x="5788080" y="2149200"/>
                    <a:chExt cx="3039480" cy="2528640"/>
                  </a:xfrm>
                </p:grpSpPr>
                <p:sp>
                  <p:nvSpPr>
                    <p:cNvPr id="288" name="Freeform 16"/>
                    <p:cNvSpPr/>
                    <p:nvPr/>
                  </p:nvSpPr>
                  <p:spPr>
                    <a:xfrm rot="2103600">
                      <a:off x="5707440" y="2752920"/>
                      <a:ext cx="223704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9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300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30"/>
                  <p:cNvGrpSpPr/>
                  <p:nvPr/>
                </p:nvGrpSpPr>
                <p:grpSpPr>
                  <a:xfrm>
                    <a:off x="5788440" y="1305720"/>
                    <a:ext cx="2363400" cy="785160"/>
                    <a:chOff x="5788440" y="1305720"/>
                    <a:chExt cx="2363400" cy="785160"/>
                  </a:xfrm>
                </p:grpSpPr>
                <p:sp>
                  <p:nvSpPr>
                    <p:cNvPr id="30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32"/>
                    <p:cNvSpPr/>
                    <p:nvPr/>
                  </p:nvSpPr>
                  <p:spPr>
                    <a:xfrm rot="20797200">
                      <a:off x="7299720" y="1394280"/>
                      <a:ext cx="8150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3"/>
                  <p:cNvGrpSpPr/>
                  <p:nvPr/>
                </p:nvGrpSpPr>
                <p:grpSpPr>
                  <a:xfrm>
                    <a:off x="2646000" y="2474640"/>
                    <a:ext cx="2556720" cy="2741760"/>
                    <a:chOff x="2646000" y="2474640"/>
                    <a:chExt cx="2556720" cy="2741760"/>
                  </a:xfrm>
                </p:grpSpPr>
                <p:sp>
                  <p:nvSpPr>
                    <p:cNvPr id="306" name="Freeform 34"/>
                    <p:cNvSpPr/>
                    <p:nvPr/>
                  </p:nvSpPr>
                  <p:spPr>
                    <a:xfrm flipH="1" rot="18888600">
                      <a:off x="3254400" y="3171960"/>
                      <a:ext cx="2125800" cy="38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5"/>
                    <p:cNvSpPr/>
                    <p:nvPr/>
                  </p:nvSpPr>
                  <p:spPr>
                    <a:xfrm flipH="1" rot="18888600">
                      <a:off x="2691000" y="4297320"/>
                      <a:ext cx="114156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6"/>
                  <p:cNvGrpSpPr/>
                  <p:nvPr/>
                </p:nvGrpSpPr>
                <p:grpSpPr>
                  <a:xfrm>
                    <a:off x="2085120" y="2366640"/>
                    <a:ext cx="3041280" cy="2530440"/>
                    <a:chOff x="2085120" y="2366640"/>
                    <a:chExt cx="3041280" cy="2530440"/>
                  </a:xfrm>
                </p:grpSpPr>
                <p:sp>
                  <p:nvSpPr>
                    <p:cNvPr id="309" name="Freeform 37"/>
                    <p:cNvSpPr/>
                    <p:nvPr/>
                  </p:nvSpPr>
                  <p:spPr>
                    <a:xfrm flipH="1" rot="19496400">
                      <a:off x="2969280" y="2970000"/>
                      <a:ext cx="223668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31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315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5"/>
                  <p:cNvGrpSpPr/>
                  <p:nvPr/>
                </p:nvGrpSpPr>
                <p:grpSpPr>
                  <a:xfrm>
                    <a:off x="2167560" y="2098080"/>
                    <a:ext cx="2940120" cy="1000800"/>
                    <a:chOff x="2167560" y="2098080"/>
                    <a:chExt cx="2940120" cy="1000800"/>
                  </a:xfrm>
                </p:grpSpPr>
                <p:sp>
                  <p:nvSpPr>
                    <p:cNvPr id="318" name="Freeform 46"/>
                    <p:cNvSpPr/>
                    <p:nvPr/>
                  </p:nvSpPr>
                  <p:spPr>
                    <a:xfrm flipH="1" rot="21136800">
                      <a:off x="3185280" y="222408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8"/>
                  <p:cNvGrpSpPr/>
                  <p:nvPr/>
                </p:nvGrpSpPr>
                <p:grpSpPr>
                  <a:xfrm>
                    <a:off x="2402280" y="2032560"/>
                    <a:ext cx="2660400" cy="447120"/>
                    <a:chOff x="2402280" y="2032560"/>
                    <a:chExt cx="2660400" cy="447120"/>
                  </a:xfrm>
                </p:grpSpPr>
                <p:sp>
                  <p:nvSpPr>
                    <p:cNvPr id="321" name="Freeform 49"/>
                    <p:cNvSpPr/>
                    <p:nvPr/>
                  </p:nvSpPr>
                  <p:spPr>
                    <a:xfrm flipH="1" rot="84600">
                      <a:off x="3328200" y="2069640"/>
                      <a:ext cx="173124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50"/>
                    <p:cNvSpPr/>
                    <p:nvPr/>
                  </p:nvSpPr>
                  <p:spPr>
                    <a:xfrm flipH="1" rot="84600">
                      <a:off x="240732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51"/>
                  <p:cNvGrpSpPr/>
                  <p:nvPr/>
                </p:nvGrpSpPr>
                <p:grpSpPr>
                  <a:xfrm>
                    <a:off x="2760840" y="1522800"/>
                    <a:ext cx="2363760" cy="786960"/>
                    <a:chOff x="2760840" y="1522800"/>
                    <a:chExt cx="2363760" cy="786960"/>
                  </a:xfrm>
                </p:grpSpPr>
                <p:sp>
                  <p:nvSpPr>
                    <p:cNvPr id="32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3"/>
                    <p:cNvSpPr/>
                    <p:nvPr/>
                  </p:nvSpPr>
                  <p:spPr>
                    <a:xfrm flipH="1" rot="802800">
                      <a:off x="2797560" y="161136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4"/>
                  <p:cNvGrpSpPr/>
                  <p:nvPr/>
                </p:nvGrpSpPr>
                <p:grpSpPr>
                  <a:xfrm>
                    <a:off x="2887200" y="1237680"/>
                    <a:ext cx="2325240" cy="1082880"/>
                    <a:chOff x="2887200" y="1237680"/>
                    <a:chExt cx="2325240" cy="1082880"/>
                  </a:xfrm>
                </p:grpSpPr>
                <p:sp>
                  <p:nvSpPr>
                    <p:cNvPr id="327" name="Freeform 55"/>
                    <p:cNvSpPr/>
                    <p:nvPr/>
                  </p:nvSpPr>
                  <p:spPr>
                    <a:xfrm flipH="1" rot="1278000">
                      <a:off x="369576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756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7"/>
                  <p:cNvGrpSpPr/>
                  <p:nvPr/>
                </p:nvGrpSpPr>
                <p:grpSpPr>
                  <a:xfrm>
                    <a:off x="3160440" y="832680"/>
                    <a:ext cx="2170800" cy="1506600"/>
                    <a:chOff x="3160440" y="832680"/>
                    <a:chExt cx="2170800" cy="1506600"/>
                  </a:xfrm>
                </p:grpSpPr>
                <p:sp>
                  <p:nvSpPr>
                    <p:cNvPr id="33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9"/>
                    <p:cNvSpPr/>
                    <p:nvPr/>
                  </p:nvSpPr>
                  <p:spPr>
                    <a:xfrm flipH="1" rot="2028600">
                      <a:off x="3206520" y="1024200"/>
                      <a:ext cx="8150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60"/>
                  <p:cNvGrpSpPr/>
                  <p:nvPr/>
                </p:nvGrpSpPr>
                <p:grpSpPr>
                  <a:xfrm>
                    <a:off x="3436200" y="436320"/>
                    <a:ext cx="1988640" cy="1831320"/>
                    <a:chOff x="3436200" y="436320"/>
                    <a:chExt cx="1988640" cy="1831320"/>
                  </a:xfrm>
                </p:grpSpPr>
                <p:sp>
                  <p:nvSpPr>
                    <p:cNvPr id="33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62"/>
                    <p:cNvSpPr/>
                    <p:nvPr/>
                  </p:nvSpPr>
                  <p:spPr>
                    <a:xfrm flipH="1" rot="2664600">
                      <a:off x="3463920" y="666360"/>
                      <a:ext cx="82872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3"/>
                  <p:cNvGrpSpPr/>
                  <p:nvPr/>
                </p:nvGrpSpPr>
                <p:grpSpPr>
                  <a:xfrm>
                    <a:off x="4027680" y="335880"/>
                    <a:ext cx="1460880" cy="1886040"/>
                    <a:chOff x="4027680" y="335880"/>
                    <a:chExt cx="1460880" cy="1886040"/>
                  </a:xfrm>
                </p:grpSpPr>
                <p:sp>
                  <p:nvSpPr>
                    <p:cNvPr id="336" name="Freeform 64"/>
                    <p:cNvSpPr/>
                    <p:nvPr/>
                  </p:nvSpPr>
                  <p:spPr>
                    <a:xfrm flipH="1" rot="3474000">
                      <a:off x="4336560" y="144396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5"/>
                    <p:cNvSpPr/>
                    <p:nvPr/>
                  </p:nvSpPr>
                  <p:spPr>
                    <a:xfrm flipH="1" rot="3474000">
                      <a:off x="4032720" y="546840"/>
                      <a:ext cx="72900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6"/>
                  <p:cNvGrpSpPr/>
                  <p:nvPr/>
                </p:nvGrpSpPr>
                <p:grpSpPr>
                  <a:xfrm>
                    <a:off x="4448160" y="245520"/>
                    <a:ext cx="1122120" cy="1946880"/>
                    <a:chOff x="4448160" y="245520"/>
                    <a:chExt cx="1122120" cy="1946880"/>
                  </a:xfrm>
                </p:grpSpPr>
                <p:sp>
                  <p:nvSpPr>
                    <p:cNvPr id="339" name="Freeform 67"/>
                    <p:cNvSpPr/>
                    <p:nvPr/>
                  </p:nvSpPr>
                  <p:spPr>
                    <a:xfrm flipH="1" rot="4126800">
                      <a:off x="455580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9"/>
                  <p:cNvGrpSpPr/>
                  <p:nvPr/>
                </p:nvGrpSpPr>
                <p:grpSpPr>
                  <a:xfrm>
                    <a:off x="5661720" y="952560"/>
                    <a:ext cx="2316240" cy="1112040"/>
                    <a:chOff x="5661720" y="952560"/>
                    <a:chExt cx="2316240" cy="1112040"/>
                  </a:xfrm>
                </p:grpSpPr>
                <p:sp>
                  <p:nvSpPr>
                    <p:cNvPr id="34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71"/>
                    <p:cNvSpPr/>
                    <p:nvPr/>
                  </p:nvSpPr>
                  <p:spPr>
                    <a:xfrm rot="20274000">
                      <a:off x="7114320" y="109044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34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4"/>
                    <p:cNvSpPr/>
                    <p:nvPr/>
                  </p:nvSpPr>
                  <p:spPr>
                    <a:xfrm rot="19678800">
                      <a:off x="6865200" y="810720"/>
                      <a:ext cx="81504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9" name="Group 77"/>
                  <p:cNvGrpSpPr/>
                  <p:nvPr/>
                </p:nvGrpSpPr>
                <p:grpSpPr>
                  <a:xfrm>
                    <a:off x="5356800" y="270360"/>
                    <a:ext cx="1195560" cy="1900800"/>
                    <a:chOff x="5356800" y="270360"/>
                    <a:chExt cx="1195560" cy="1900800"/>
                  </a:xfrm>
                </p:grpSpPr>
                <p:sp>
                  <p:nvSpPr>
                    <p:cNvPr id="350" name="Freeform 78"/>
                    <p:cNvSpPr/>
                    <p:nvPr/>
                  </p:nvSpPr>
                  <p:spPr>
                    <a:xfrm rot="17742000">
                      <a:off x="508788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353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3"/>
                  <p:cNvGrpSpPr/>
                  <p:nvPr/>
                </p:nvGrpSpPr>
                <p:grpSpPr>
                  <a:xfrm>
                    <a:off x="5458320" y="292680"/>
                    <a:ext cx="425880" cy="1795320"/>
                    <a:chOff x="5458320" y="292680"/>
                    <a:chExt cx="425880" cy="1795320"/>
                  </a:xfrm>
                </p:grpSpPr>
                <p:sp>
                  <p:nvSpPr>
                    <p:cNvPr id="35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6"/>
                  <p:cNvGrpSpPr/>
                  <p:nvPr/>
                </p:nvGrpSpPr>
                <p:grpSpPr>
                  <a:xfrm>
                    <a:off x="3062160" y="2530080"/>
                    <a:ext cx="2196000" cy="3002400"/>
                    <a:chOff x="3062160" y="2530080"/>
                    <a:chExt cx="2196000" cy="3002400"/>
                  </a:xfrm>
                </p:grpSpPr>
                <p:sp>
                  <p:nvSpPr>
                    <p:cNvPr id="359" name="Freeform 87"/>
                    <p:cNvSpPr/>
                    <p:nvPr/>
                  </p:nvSpPr>
                  <p:spPr>
                    <a:xfrm flipH="1" rot="18336000">
                      <a:off x="3419640" y="331344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8"/>
                    <p:cNvSpPr/>
                    <p:nvPr/>
                  </p:nvSpPr>
                  <p:spPr>
                    <a:xfrm flipH="1" rot="18336000">
                      <a:off x="306936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9"/>
                  <p:cNvGrpSpPr/>
                  <p:nvPr/>
                </p:nvGrpSpPr>
                <p:grpSpPr>
                  <a:xfrm>
                    <a:off x="3791520" y="2650320"/>
                    <a:ext cx="1483920" cy="2999160"/>
                    <a:chOff x="3791520" y="2650320"/>
                    <a:chExt cx="1483920" cy="2999160"/>
                  </a:xfrm>
                </p:grpSpPr>
                <p:sp>
                  <p:nvSpPr>
                    <p:cNvPr id="362" name="Freeform 90"/>
                    <p:cNvSpPr/>
                    <p:nvPr/>
                  </p:nvSpPr>
                  <p:spPr>
                    <a:xfrm flipH="1" rot="17543400">
                      <a:off x="3738960" y="3439800"/>
                      <a:ext cx="1966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92"/>
                  <p:cNvGrpSpPr/>
                  <p:nvPr/>
                </p:nvGrpSpPr>
                <p:grpSpPr>
                  <a:xfrm>
                    <a:off x="4507920" y="2702160"/>
                    <a:ext cx="872280" cy="2926800"/>
                    <a:chOff x="4507920" y="2702160"/>
                    <a:chExt cx="872280" cy="2926800"/>
                  </a:xfrm>
                </p:grpSpPr>
                <p:sp>
                  <p:nvSpPr>
                    <p:cNvPr id="365" name="Freeform 93"/>
                    <p:cNvSpPr/>
                    <p:nvPr/>
                  </p:nvSpPr>
                  <p:spPr>
                    <a:xfrm flipH="1" rot="16870800">
                      <a:off x="4084200" y="3488040"/>
                      <a:ext cx="1886760" cy="34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4"/>
                    <p:cNvSpPr/>
                    <p:nvPr/>
                  </p:nvSpPr>
                  <p:spPr>
                    <a:xfrm flipH="1" rot="16870800">
                      <a:off x="4365720" y="4808160"/>
                      <a:ext cx="1012320" cy="54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68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8"/>
                  <p:cNvGrpSpPr/>
                  <p:nvPr/>
                </p:nvGrpSpPr>
                <p:grpSpPr>
                  <a:xfrm>
                    <a:off x="5648400" y="2594520"/>
                    <a:ext cx="1757520" cy="3030120"/>
                    <a:chOff x="5648400" y="2594520"/>
                    <a:chExt cx="1757520" cy="3030120"/>
                  </a:xfrm>
                </p:grpSpPr>
                <p:sp>
                  <p:nvSpPr>
                    <p:cNvPr id="371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00"/>
                    <p:cNvSpPr/>
                    <p:nvPr/>
                  </p:nvSpPr>
                  <p:spPr>
                    <a:xfrm rot="3745200">
                      <a:off x="635328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374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7"/>
                  <p:cNvGrpSpPr/>
                  <p:nvPr/>
                </p:nvGrpSpPr>
                <p:grpSpPr>
                  <a:xfrm>
                    <a:off x="4959360" y="2887560"/>
                    <a:ext cx="664920" cy="2717640"/>
                    <a:chOff x="4959360" y="2887560"/>
                    <a:chExt cx="664920" cy="2717640"/>
                  </a:xfrm>
                </p:grpSpPr>
                <p:sp>
                  <p:nvSpPr>
                    <p:cNvPr id="38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9"/>
                    <p:cNvSpPr/>
                    <p:nvPr/>
                  </p:nvSpPr>
                  <p:spPr>
                    <a:xfrm rot="5755200">
                      <a:off x="471348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2" name="Group 110"/>
              <p:cNvGrpSpPr/>
              <p:nvPr/>
            </p:nvGrpSpPr>
            <p:grpSpPr>
              <a:xfrm>
                <a:off x="2176920" y="682560"/>
                <a:ext cx="6730200" cy="4521240"/>
                <a:chOff x="2176920" y="682560"/>
                <a:chExt cx="6730200" cy="4521240"/>
              </a:xfrm>
            </p:grpSpPr>
            <p:grpSp>
              <p:nvGrpSpPr>
                <p:cNvPr id="383" name="Group 111"/>
                <p:cNvGrpSpPr/>
                <p:nvPr/>
              </p:nvGrpSpPr>
              <p:grpSpPr>
                <a:xfrm>
                  <a:off x="2176920" y="682560"/>
                  <a:ext cx="6730200" cy="4521240"/>
                  <a:chOff x="2176920" y="682560"/>
                  <a:chExt cx="6730200" cy="4521240"/>
                </a:xfrm>
              </p:grpSpPr>
              <p:sp>
                <p:nvSpPr>
                  <p:cNvPr id="384" name="Arc 112"/>
                  <p:cNvSpPr/>
                  <p:nvPr/>
                </p:nvSpPr>
                <p:spPr>
                  <a:xfrm flipV="1">
                    <a:off x="5741640" y="857880"/>
                    <a:ext cx="316548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rc 113"/>
                  <p:cNvSpPr/>
                  <p:nvPr/>
                </p:nvSpPr>
                <p:spPr>
                  <a:xfrm flipH="1">
                    <a:off x="256320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rc 114"/>
                  <p:cNvSpPr/>
                  <p:nvPr/>
                </p:nvSpPr>
                <p:spPr>
                  <a:xfrm>
                    <a:off x="581940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rc 115"/>
                  <p:cNvSpPr/>
                  <p:nvPr/>
                </p:nvSpPr>
                <p:spPr>
                  <a:xfrm flipH="1">
                    <a:off x="2176920" y="1297800"/>
                    <a:ext cx="31320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6"/>
                  <p:cNvSpPr/>
                  <p:nvPr/>
                </p:nvSpPr>
                <p:spPr>
                  <a:xfrm flipH="1">
                    <a:off x="3057840" y="682560"/>
                    <a:ext cx="228132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7"/>
                  <p:cNvSpPr/>
                  <p:nvPr/>
                </p:nvSpPr>
                <p:spPr>
                  <a:xfrm>
                    <a:off x="549252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118"/>
                  <p:cNvSpPr/>
                  <p:nvPr/>
                </p:nvSpPr>
                <p:spPr>
                  <a:xfrm flipH="1">
                    <a:off x="430344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Freeform 119"/>
                <p:cNvSpPr/>
                <p:nvPr/>
              </p:nvSpPr>
              <p:spPr>
                <a:xfrm rot="20253000">
                  <a:off x="612864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120"/>
            <p:cNvGrpSpPr/>
            <p:nvPr/>
          </p:nvGrpSpPr>
          <p:grpSpPr>
            <a:xfrm>
              <a:off x="2347560" y="719280"/>
              <a:ext cx="6407280" cy="4708080"/>
              <a:chOff x="2347560" y="719280"/>
              <a:chExt cx="6407280" cy="4708080"/>
            </a:xfrm>
          </p:grpSpPr>
          <p:sp>
            <p:nvSpPr>
              <p:cNvPr id="393" name="Freeform 121"/>
              <p:cNvSpPr/>
              <p:nvPr/>
            </p:nvSpPr>
            <p:spPr>
              <a:xfrm flipH="1">
                <a:off x="4472640" y="324108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2"/>
              <p:cNvSpPr/>
              <p:nvPr/>
            </p:nvSpPr>
            <p:spPr>
              <a:xfrm flipH="1">
                <a:off x="3387240" y="2586240"/>
                <a:ext cx="26154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3"/>
              <p:cNvSpPr/>
              <p:nvPr/>
            </p:nvSpPr>
            <p:spPr>
              <a:xfrm flipH="1">
                <a:off x="3648600" y="2128680"/>
                <a:ext cx="153324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4"/>
              <p:cNvSpPr/>
              <p:nvPr/>
            </p:nvSpPr>
            <p:spPr>
              <a:xfrm flipH="1">
                <a:off x="2347560" y="1745280"/>
                <a:ext cx="29289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5"/>
              <p:cNvSpPr/>
              <p:nvPr/>
            </p:nvSpPr>
            <p:spPr>
              <a:xfrm>
                <a:off x="5589360" y="2157120"/>
                <a:ext cx="46944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Arc 126"/>
              <p:cNvSpPr/>
              <p:nvPr/>
            </p:nvSpPr>
            <p:spPr>
              <a:xfrm>
                <a:off x="5712840" y="2143440"/>
                <a:ext cx="123732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7"/>
              <p:cNvSpPr/>
              <p:nvPr/>
            </p:nvSpPr>
            <p:spPr>
              <a:xfrm>
                <a:off x="6156360" y="355320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28"/>
              <p:cNvSpPr/>
              <p:nvPr/>
            </p:nvSpPr>
            <p:spPr>
              <a:xfrm flipV="1" rot="19660800">
                <a:off x="5227920" y="2952720"/>
                <a:ext cx="543240" cy="1033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29"/>
              <p:cNvSpPr/>
              <p:nvPr/>
            </p:nvSpPr>
            <p:spPr>
              <a:xfrm flipH="1">
                <a:off x="2690640" y="3390480"/>
                <a:ext cx="133740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30"/>
              <p:cNvSpPr/>
              <p:nvPr/>
            </p:nvSpPr>
            <p:spPr>
              <a:xfrm flipH="1">
                <a:off x="3320640" y="1404720"/>
                <a:ext cx="8578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31"/>
              <p:cNvSpPr/>
              <p:nvPr/>
            </p:nvSpPr>
            <p:spPr>
              <a:xfrm>
                <a:off x="7513560" y="3114360"/>
                <a:ext cx="124128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2"/>
              <p:cNvSpPr/>
              <p:nvPr/>
            </p:nvSpPr>
            <p:spPr>
              <a:xfrm>
                <a:off x="6869160" y="2116440"/>
                <a:ext cx="187092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3"/>
              <p:cNvSpPr/>
              <p:nvPr/>
            </p:nvSpPr>
            <p:spPr>
              <a:xfrm>
                <a:off x="6937920" y="719280"/>
                <a:ext cx="81828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4"/>
              <p:cNvSpPr/>
              <p:nvPr/>
            </p:nvSpPr>
            <p:spPr>
              <a:xfrm flipH="1" rot="1347000">
                <a:off x="4185720" y="21603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4923-CED5-439E-8FF1-86BA8EA3557B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tech/t34_85_1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g-fotki.yandex.ru/get/2712/more7007.10/0_26671_35e97d0b_XL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urakami.narod.ru/main/explosion/mu_images/b29.jp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night.dzzzr.ru/uploaded/nvkz/Night/28_03_2009_bomba/cupxlorntsqhddzhnwzwc.jpg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eduhistory.ru/book/ww2/img/tmp389B-126b.jpg" TargetMode="Externa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rtandphoto.ru/stock/photo1/1227/12621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oigraika.ru/gallery/data/media/6/_DSC0003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static-p4.fotolia.com/jpg/00/01/11/19/400_F_1111993_OLDNgYL9WKzH567mI67HwbkPDNAy89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vokrugsveta.ru/photo/thumbnails/600/10030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okrugsveta.ru/photo/thumbnails/600/1003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bse.sci-lib.com/pictures/20/16/294618504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ilitera.lib.ru/h/isaev_av8/16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yaplakal.com/uploads/previews/post-2-12324404802696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lyceum8.ru/stalingrad/V-S-K(3.gif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img.ipvod.ru/ipvodimages/forig/11341/24015_1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w2history.ru/uploads/posts/1266319041_56-100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rnns.ru/uploads/posts/2009-11/thumbs/1257525721_69.jpe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g-fotki.yandex.ru/get/21/lady-may2006.0/0_d543_44b1c95a_XL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8153280" cy="25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"Металлы тоже воевали…"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по химии в 8 класс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 Солодунова Н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6" descr="Картинка 4 из 53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7439040" cy="48578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004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Никель. Т-3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3" name="Picture 8" descr="Картинка 19 из 53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427120"/>
            <a:ext cx="5715000" cy="44308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p23_1l"/>
          <p:cNvPicPr/>
          <p:nvPr/>
        </p:nvPicPr>
        <p:blipFill>
          <a:blip r:embed="rId5"/>
          <a:stretch/>
        </p:blipFill>
        <p:spPr>
          <a:xfrm>
            <a:off x="0" y="0"/>
            <a:ext cx="3381480" cy="49831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485" name="Rectangle 11"/>
          <p:cNvSpPr/>
          <p:nvPr/>
        </p:nvSpPr>
        <p:spPr>
          <a:xfrm>
            <a:off x="381960" y="5180400"/>
            <a:ext cx="2165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М. И. Кошк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Алюминий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724280" y="38937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Тяжелый высотный бомбардировщик «Боинг» В-17.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1940-е гг. СШ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4" descr="Тяжелый высотный бомбардировщик «Боинг» В-17. 1940-е гг. США"/>
          <p:cNvPicPr/>
          <p:nvPr/>
        </p:nvPicPr>
        <p:blipFill>
          <a:blip r:embed="rId1"/>
          <a:stretch/>
        </p:blipFill>
        <p:spPr>
          <a:xfrm>
            <a:off x="4724280" y="1219320"/>
            <a:ext cx="4102200" cy="25146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http://im7-tub-ru.yandex.net/i?id=363828459-43-72&amp;n=21"/>
          <p:cNvPicPr/>
          <p:nvPr/>
        </p:nvPicPr>
        <p:blipFill>
          <a:blip r:embed="rId2"/>
          <a:stretch/>
        </p:blipFill>
        <p:spPr>
          <a:xfrm>
            <a:off x="152280" y="1219320"/>
            <a:ext cx="3413160" cy="2133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http://im3-tub-ru.yandex.net/i?id=31096881-34-72&amp;n=21"/>
          <p:cNvPicPr/>
          <p:nvPr/>
        </p:nvPicPr>
        <p:blipFill>
          <a:blip r:embed="rId3"/>
          <a:stretch/>
        </p:blipFill>
        <p:spPr>
          <a:xfrm>
            <a:off x="533520" y="3886200"/>
            <a:ext cx="3357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1" descr="ofzab500"/>
          <p:cNvPicPr/>
          <p:nvPr/>
        </p:nvPicPr>
        <p:blipFill>
          <a:blip r:embed="rId1"/>
          <a:stretch/>
        </p:blipFill>
        <p:spPr>
          <a:xfrm>
            <a:off x="1447920" y="1523880"/>
            <a:ext cx="6534000" cy="354816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люминий. Зажигательные бомб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3" name="Picture 5" descr="Картинка 15 из 4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1752480"/>
            <a:ext cx="3962520" cy="30704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cupxlorntsqhddzhnwzw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3880"/>
            <a:ext cx="3043080" cy="4419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" descr="Картинка 24 из 40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14600" y="3857760"/>
            <a:ext cx="5076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едь-латунь (гильзы патронов)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ронза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7" name="Picture 13" descr="Картинка 7 из 17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3880"/>
            <a:ext cx="4343400" cy="325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5" descr="15-photo-15"/>
          <p:cNvPicPr/>
          <p:nvPr/>
        </p:nvPicPr>
        <p:blipFill>
          <a:blip r:embed="rId3"/>
          <a:stretch/>
        </p:blipFill>
        <p:spPr>
          <a:xfrm>
            <a:off x="5364000" y="2209680"/>
            <a:ext cx="3427560" cy="445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7" descr="Картинка 19 из 214"/>
          <p:cNvPicPr/>
          <p:nvPr/>
        </p:nvPicPr>
        <p:blipFill>
          <a:blip r:embed="rId4"/>
          <a:stretch/>
        </p:blipFill>
        <p:spPr>
          <a:xfrm>
            <a:off x="4067280" y="2133720"/>
            <a:ext cx="5076720" cy="3647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1" descr="Картинка 6 из 21"/>
          <p:cNvPicPr/>
          <p:nvPr/>
        </p:nvPicPr>
        <p:blipFill>
          <a:blip r:embed="rId5"/>
          <a:stretch/>
        </p:blipFill>
        <p:spPr>
          <a:xfrm>
            <a:off x="914400" y="2058840"/>
            <a:ext cx="378288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еребро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2" name="Picture 5" descr="Картинка 4 из 40"/>
          <p:cNvPicPr/>
          <p:nvPr/>
        </p:nvPicPr>
        <p:blipFill>
          <a:blip r:embed="rId1"/>
          <a:stretch/>
        </p:blipFill>
        <p:spPr>
          <a:xfrm>
            <a:off x="4952880" y="1143000"/>
            <a:ext cx="3843360" cy="28195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http://im0-tub-ru.yandex.net/i?id=265107971-56-72&amp;n=21"/>
          <p:cNvPicPr/>
          <p:nvPr/>
        </p:nvPicPr>
        <p:blipFill>
          <a:blip r:embed="rId2"/>
          <a:stretch/>
        </p:blipFill>
        <p:spPr>
          <a:xfrm>
            <a:off x="533520" y="1219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http://im0-tub-ru.yandex.net/i?id=432142220-70-72&amp;n=21"/>
          <p:cNvPicPr/>
          <p:nvPr/>
        </p:nvPicPr>
        <p:blipFill>
          <a:blip r:embed="rId3"/>
          <a:stretch/>
        </p:blipFill>
        <p:spPr>
          <a:xfrm>
            <a:off x="3268800" y="4267080"/>
            <a:ext cx="33685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Картинка 16 из 149"/>
          <p:cNvPicPr/>
          <p:nvPr/>
        </p:nvPicPr>
        <p:blipFill>
          <a:blip r:embed="rId1"/>
          <a:stretch/>
        </p:blipFill>
        <p:spPr>
          <a:xfrm>
            <a:off x="0" y="347652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агний. Осветительные ракет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800600" y="487692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было  светло, как дн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5" descr="Картинка 13 из 149"/>
          <p:cNvPicPr/>
          <p:nvPr/>
        </p:nvPicPr>
        <p:blipFill>
          <a:blip r:embed="rId2"/>
          <a:stretch/>
        </p:blipFill>
        <p:spPr>
          <a:xfrm>
            <a:off x="4381560" y="114300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http://im4-tub-ru.yandex.net/i?id=686996292-55-72&amp;n=21"/>
          <p:cNvPicPr/>
          <p:nvPr/>
        </p:nvPicPr>
        <p:blipFill>
          <a:blip r:embed="rId3"/>
          <a:stretch/>
        </p:blipFill>
        <p:spPr>
          <a:xfrm>
            <a:off x="609480" y="1447920"/>
            <a:ext cx="3016440" cy="1809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http://im7-tub-ru.yandex.net/i?id=339428221-30-72&amp;n=21"/>
          <p:cNvPicPr/>
          <p:nvPr/>
        </p:nvPicPr>
        <p:blipFill>
          <a:blip r:embed="rId4"/>
          <a:stretch/>
        </p:blipFill>
        <p:spPr>
          <a:xfrm>
            <a:off x="2425680" y="3244680"/>
            <a:ext cx="1962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лово – металл «консервной банки»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2" name="Picture 4" descr="А.Е.Ферсман (1883–1945)"/>
          <p:cNvPicPr/>
          <p:nvPr/>
        </p:nvPicPr>
        <p:blipFill>
          <a:blip r:embed="rId1"/>
          <a:stretch/>
        </p:blipFill>
        <p:spPr>
          <a:xfrm>
            <a:off x="6477120" y="1981080"/>
            <a:ext cx="2292120" cy="28195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6783480" y="51048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Е.Ферсма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1883–1945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7" descr="http://im0-tub-ru.yandex.net/i?id=313403625-01-72&amp;n=21"/>
          <p:cNvPicPr/>
          <p:nvPr/>
        </p:nvPicPr>
        <p:blipFill>
          <a:blip r:embed="rId2"/>
          <a:stretch/>
        </p:blipFill>
        <p:spPr>
          <a:xfrm>
            <a:off x="533520" y="1509840"/>
            <a:ext cx="1752480" cy="2603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http://im6-tub-ru.yandex.net/i?id=319028948-25-72&amp;n=21"/>
          <p:cNvPicPr/>
          <p:nvPr/>
        </p:nvPicPr>
        <p:blipFill>
          <a:blip r:embed="rId3"/>
          <a:stretch/>
        </p:blipFill>
        <p:spPr>
          <a:xfrm>
            <a:off x="3352680" y="1671480"/>
            <a:ext cx="1854360" cy="2279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http://im3-tub-ru.yandex.net/i?id=28617501-00-72&amp;n=21"/>
          <p:cNvPicPr/>
          <p:nvPr/>
        </p:nvPicPr>
        <p:blipFill>
          <a:blip r:embed="rId4"/>
          <a:stretch/>
        </p:blipFill>
        <p:spPr>
          <a:xfrm>
            <a:off x="3581280" y="4495680"/>
            <a:ext cx="2770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ченые-химики в период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еликой Отечественной войн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8" name="Picture 4" descr="А.Е.Ферсман (1883–1945)"/>
          <p:cNvPicPr/>
          <p:nvPr/>
        </p:nvPicPr>
        <p:blipFill>
          <a:blip r:embed="rId1"/>
          <a:stretch/>
        </p:blipFill>
        <p:spPr>
          <a:xfrm>
            <a:off x="7182000" y="1600200"/>
            <a:ext cx="1611000" cy="19810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19" name="Rectangle 5"/>
          <p:cNvSpPr/>
          <p:nvPr/>
        </p:nvSpPr>
        <p:spPr>
          <a:xfrm>
            <a:off x="7315200" y="380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А.Е.Ферсман</a:t>
            </a:r>
            <a:br>
              <a:rPr sz="1800"/>
            </a:b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(1883–1945)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7" descr="А.Е.Арбузов (1877–1968)"/>
          <p:cNvPicPr/>
          <p:nvPr/>
        </p:nvPicPr>
        <p:blipFill>
          <a:blip r:embed="rId2"/>
          <a:stretch/>
        </p:blipFill>
        <p:spPr>
          <a:xfrm>
            <a:off x="7129440" y="4572000"/>
            <a:ext cx="1785960" cy="22860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1" name="Rectangle 8"/>
          <p:cNvSpPr/>
          <p:nvPr/>
        </p:nvSpPr>
        <p:spPr>
          <a:xfrm>
            <a:off x="6400800" y="6490440"/>
            <a:ext cx="2895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А.Е.Арбузов (1877–1968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9" descr="Н.Д.Зелинский (1861–1953)"/>
          <p:cNvPicPr/>
          <p:nvPr/>
        </p:nvPicPr>
        <p:blipFill>
          <a:blip r:embed="rId3"/>
          <a:stretch/>
        </p:blipFill>
        <p:spPr>
          <a:xfrm>
            <a:off x="2666880" y="1600200"/>
            <a:ext cx="1652760" cy="21337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3" name="Rectangle 10"/>
          <p:cNvSpPr/>
          <p:nvPr/>
        </p:nvSpPr>
        <p:spPr>
          <a:xfrm>
            <a:off x="2666880" y="388584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Н.Д.Зелинский</a:t>
            </a:r>
            <a:br>
              <a:rPr sz="1800"/>
            </a:b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(1861–195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11" descr="Н.Н.Семенов (1896–1986)"/>
          <p:cNvPicPr/>
          <p:nvPr/>
        </p:nvPicPr>
        <p:blipFill>
          <a:blip r:embed="rId4"/>
          <a:stretch/>
        </p:blipFill>
        <p:spPr>
          <a:xfrm>
            <a:off x="3830760" y="4572000"/>
            <a:ext cx="1444680" cy="19051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5" name="Rectangle 12"/>
          <p:cNvSpPr/>
          <p:nvPr/>
        </p:nvSpPr>
        <p:spPr>
          <a:xfrm>
            <a:off x="2971800" y="6490440"/>
            <a:ext cx="2971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Н.Н.Семенов (1896–1986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3" descr="С.И.Вольфкович (1896–1980)"/>
          <p:cNvPicPr/>
          <p:nvPr/>
        </p:nvPicPr>
        <p:blipFill>
          <a:blip r:embed="rId5"/>
          <a:stretch/>
        </p:blipFill>
        <p:spPr>
          <a:xfrm>
            <a:off x="380880" y="1523880"/>
            <a:ext cx="1641600" cy="21337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7" name="Rectangle 14"/>
          <p:cNvSpPr/>
          <p:nvPr/>
        </p:nvSpPr>
        <p:spPr>
          <a:xfrm>
            <a:off x="229320" y="3885840"/>
            <a:ext cx="1858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С.И.Вольфкович</a:t>
            </a:r>
            <a:br>
              <a:rPr sz="1800"/>
            </a:b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(1896–1980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15" descr="И.Л.Кнунянц (1906–1990)"/>
          <p:cNvPicPr/>
          <p:nvPr/>
        </p:nvPicPr>
        <p:blipFill>
          <a:blip r:embed="rId6"/>
          <a:stretch/>
        </p:blipFill>
        <p:spPr>
          <a:xfrm>
            <a:off x="4959360" y="1600200"/>
            <a:ext cx="1582560" cy="20574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9" name="Rectangle 16"/>
          <p:cNvSpPr/>
          <p:nvPr/>
        </p:nvSpPr>
        <p:spPr>
          <a:xfrm>
            <a:off x="4954680" y="380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И.Л.Кнунянц</a:t>
            </a:r>
            <a:br>
              <a:rPr sz="1800"/>
            </a:b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(1906–1990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17" descr="Н.Н.Мельников (1908–2000)"/>
          <p:cNvPicPr/>
          <p:nvPr/>
        </p:nvPicPr>
        <p:blipFill>
          <a:blip r:embed="rId7"/>
          <a:stretch/>
        </p:blipFill>
        <p:spPr>
          <a:xfrm>
            <a:off x="609480" y="4724280"/>
            <a:ext cx="1549440" cy="19051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31" name="Rectangle 18"/>
          <p:cNvSpPr/>
          <p:nvPr/>
        </p:nvSpPr>
        <p:spPr>
          <a:xfrm>
            <a:off x="-152280" y="6536520"/>
            <a:ext cx="2895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Times New Roman"/>
              </a:rPr>
              <a:t>Н.Н.Мельников </a:t>
            </a:r>
            <a:r>
              <a:rPr b="1" i="1" lang="ru-RU" sz="1600" spc="-1" strike="noStrike">
                <a:solidFill>
                  <a:srgbClr val="ffff66"/>
                </a:solidFill>
                <a:latin typeface="Times New Roman"/>
              </a:rPr>
              <a:t>(1908–2000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емцами было разрушено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2000 промышленных предприят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100 железнодорожных станц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000 больниц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4000 школ, техникумов и ВУЗов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3000 библиоте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лностью или частично разрушено и сожжено 1710 горо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 более 70000 сел и деревень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1" descr="http://img1.liveinternet.ru/images/attach/c/1/56/694/56694474_poobeda.jpg"/>
          <p:cNvPicPr/>
          <p:nvPr/>
        </p:nvPicPr>
        <p:blipFill>
          <a:blip r:embed="rId1"/>
          <a:stretch/>
        </p:blipFill>
        <p:spPr>
          <a:xfrm>
            <a:off x="146160" y="93600"/>
            <a:ext cx="5938560" cy="40212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Картинка 2 из 23"/>
          <p:cNvPicPr/>
          <p:nvPr/>
        </p:nvPicPr>
        <p:blipFill>
          <a:blip r:embed="rId2"/>
          <a:stretch/>
        </p:blipFill>
        <p:spPr>
          <a:xfrm>
            <a:off x="6084720" y="3581280"/>
            <a:ext cx="3024360" cy="3200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http://im7-tub-ru.yandex.net/i?id=320788572-39-72&amp;n=21"/>
          <p:cNvPicPr/>
          <p:nvPr/>
        </p:nvPicPr>
        <p:blipFill>
          <a:blip r:embed="rId3"/>
          <a:stretch/>
        </p:blipFill>
        <p:spPr>
          <a:xfrm>
            <a:off x="146160" y="41972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5" descr="http://im6-tub-ru.yandex.net/i?id=468526440-03-72&amp;n=21"/>
          <p:cNvPicPr/>
          <p:nvPr/>
        </p:nvPicPr>
        <p:blipFill>
          <a:blip r:embed="rId4"/>
          <a:stretch/>
        </p:blipFill>
        <p:spPr>
          <a:xfrm>
            <a:off x="2666880" y="4495680"/>
            <a:ext cx="29926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глубить представление о многообразии металлов и их знач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казать, что победа ковалась и в тылу трудом многих советских людей, видных ученых, инженеров и рабоч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звивать познавательный интерес, реализуя межпредметные связи курсов химии, истории, литера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спитывать в учащихся чувство патриотизма, преданности и любви к своей Родине, уважительное отношение к ветеранам войны и т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икторина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838080" y="1295280"/>
            <a:ext cx="69422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cc"/>
                </a:solidFill>
                <a:latin typeface="Arial"/>
              </a:rPr>
              <a:t>1</a:t>
            </a:r>
            <a:r>
              <a:rPr b="1" i="1" lang="ru-RU" sz="4400" spc="-1" strike="noStrike">
                <a:solidFill>
                  <a:srgbClr val="ffcccc"/>
                </a:solidFill>
                <a:latin typeface="Arial"/>
              </a:rPr>
              <a:t>. </a:t>
            </a:r>
            <a:r>
              <a:rPr b="1" i="1" lang="ru-RU" sz="4400" spc="-1" strike="noStrike">
                <a:solidFill>
                  <a:srgbClr val="ffcccc"/>
                </a:solidFill>
                <a:latin typeface="Times New Roman"/>
              </a:rPr>
              <a:t>Какие металлы содержатся в гильзе артиллерийского снаряд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-1447920" y="1066680"/>
            <a:ext cx="8715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Times New Roman"/>
              </a:rPr>
              <a:t>2. Как используется магний в военном дел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762120" y="25909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Times New Roman"/>
              </a:rPr>
              <a:t>3. Какой металл может "болеть чумой"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09480" y="3429000"/>
            <a:ext cx="68263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4. Какой металл и почему называют "крылатым"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357120" y="4267080"/>
            <a:ext cx="87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5. Какой металл А.Е. Ферсман назвал "металлом консервной банки"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аллов много есть, но дело не в количестве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оманде работящей металлическ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е мастера, такие личности!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уменьшать нам вовсе не приста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луги безусловные металл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 египтянином, китайцем, древним гре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каждым современным челове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ыберите химические элементы-металлы.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       P        H        N         Na       B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        F        K       Ca        Fe       Mg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         O       Li        Ag       S           Z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Картинка 8 из 46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2120"/>
            <a:ext cx="8839440" cy="66358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8840" y="837720"/>
            <a:ext cx="396252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Утро, 41-го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64" name="Picture 7" descr="Картинка 14 из 19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Картинка 82 из 104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86040" y="2771640"/>
            <a:ext cx="54579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" descr="Картинка 82 из 104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676160" y="5486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й бронеавтомобиль «Пума»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м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4" descr="Тяжелый бронеавтомобиль «Пума». Германия"/>
          <p:cNvPicPr/>
          <p:nvPr/>
        </p:nvPicPr>
        <p:blipFill>
          <a:blip r:embed="rId3"/>
          <a:stretch/>
        </p:blipFill>
        <p:spPr>
          <a:xfrm>
            <a:off x="228600" y="990720"/>
            <a:ext cx="8686800" cy="37195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Картинка 11 из 8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0"/>
            <a:ext cx="47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9" descr="Картинка 13 из 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371600"/>
            <a:ext cx="5457960" cy="32148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В бою железо – дороже золота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72" name="Picture 5" descr="Картинка 9 из 1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3716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Картинка 28 из 1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2913120"/>
            <a:ext cx="6553080" cy="39448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Картинка 26 из 10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90720" y="1217520"/>
            <a:ext cx="75150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шите задачи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. Определите количества вещества железа, взятого массой 28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-2. Определите массу железа, взятого количеством вещества 1, 5 м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Картинка 31 из 587">
            <a:hlinkClick r:id="rId1"/>
          </p:cNvPr>
          <p:cNvPicPr/>
          <p:nvPr/>
        </p:nvPicPr>
        <p:blipFill>
          <a:blip r:embed="rId2"/>
          <a:stretch/>
        </p:blipFill>
        <p:spPr>
          <a:xfrm rot="20754600">
            <a:off x="-304560" y="1600200"/>
            <a:ext cx="4610160" cy="34653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Картинка 21 из 5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3476520"/>
            <a:ext cx="5077080" cy="33814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Картинка 38 из 587">
            <a:hlinkClick r:id="rId5"/>
          </p:cNvPr>
          <p:cNvPicPr/>
          <p:nvPr/>
        </p:nvPicPr>
        <p:blipFill>
          <a:blip r:embed="rId6"/>
          <a:stretch/>
        </p:blipFill>
        <p:spPr>
          <a:xfrm rot="889800">
            <a:off x="4295880" y="1600200"/>
            <a:ext cx="4848120" cy="33289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винец – «смертоносный» металл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3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use</dc:creator>
  <dc:description/>
  <dc:language>en-US</dc:language>
  <cp:lastModifiedBy>House</cp:lastModifiedBy>
  <dcterms:modified xsi:type="dcterms:W3CDTF">2022-05-10T11:27:2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